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FF2-46EF-4F6C-A7EB-07445441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637-0A0A-43C1-8804-9A8FC1D4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F3B-6A76-4C71-8BF5-1DBFE285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64D-5232-44E8-B982-B226133D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17FE-3CE7-4834-86C4-C3EA3833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CE5-AB42-4198-B098-498A31A5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E211-050C-41B8-8E2B-EE9DAB55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B318-FDAA-4AC3-BD42-01305DBB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E627-BB74-4AA7-8BB3-99F55F7D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7722-2B86-46CB-B872-D9F8F204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81AD-CC99-453A-AB3A-9A773F8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82D-6EDD-466A-8915-4530BBD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3C75-5DAB-40E2-BF6D-A7D5772F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8327-013E-4AF9-A5C3-A1D5EEE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7A59-7DC6-4271-9AC7-FD6B9D03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DC3C-7612-429D-B159-2A597A4F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940A-45ED-4472-9400-471B0AC3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A15-6DC9-487A-87AE-98B79CA1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F36-38B0-4D2A-878A-C5A311A4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F59-9DD4-4665-A8ED-23D1B3DD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DB7-6FEF-426A-B18B-D9AE5167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0A3-C747-44ED-A9D7-93F3048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2DE-55EF-4725-ACDF-45833C6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7FE-FB8F-4F8F-A991-67AD2E01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128E-4EDD-47FB-BB2C-2971F80A0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5252-7F90-493E-86E0-2B1A40004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2 – World History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3 – Regional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Kenyatta; Nyr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eric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Peron; Cas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a and Ocean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Mao; Suka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Europe and Middle Ea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Hitler; Stalin; Nas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igins and rise of nationalist/independence movements in Africa and Asi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ti-colonialism; nationalism; impact of wars; other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med struggle; non-violent methods; role of leaders; poli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llenges to Soviet control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igins; role of leaders;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tion of new government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lonial legacy; conflict with neighbours; political experience; economics, social issues, ethnic mov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or Detailed Study - Africa &amp;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Algeria; Angola; Belgian Congo/Zaire; Ghana; Rhodesia/Zimbab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a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ndia and Pakistan; Indon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aders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n Bella; Ho Chi Minh; Jinnah; Gandhi; Mugabe; Nkruma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or Detailed Study -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vemen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Czechoslovakia,  Hungary, Poland, Yugoslavia (dissolution and successor st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ad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Walesa, Ha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The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Origins of the Cold War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ideology; mutual fear; wartime allies to post-war enemi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Nature of the Cold War 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deology; superpowers and spheres of influence; alliances and diploma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 and impact 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lobal spread; containment etc.; role of UN and non-aligned; arms race; leaders; social impa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nd of Cold War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break up of Soviet Union; breakdown of Soviet control over E. Euro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artime conferences - Yalta and Potsd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S polices and developments in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oviet Policies in Eur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ino-Soviet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S-Chinese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ermany, Congo, Afghanistan, Korea, Cuba, Vietnam, Middle E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astro, Gorbachev, Kennedy, Mao Reagan, Stalin, Tru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and the Middle 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m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ia and Oce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e: Nasser is now part of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s – Pap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25652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b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det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oken down into narrow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3 -15 and 16 -2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.will replace 11-13, 14 -16 and 17 -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ll this lead to slightly more generous awarding of mark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storiography - Markband 10-12 through 16-20 and clar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2 and Paper 3 markbands are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for detailed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s: 1900-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Topics not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2 &amp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Questions per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Questions on each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pen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pecific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question on social, economic or gend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question will require examples from two different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Question will require comparison or be based on a qu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idates answer 2 questions, each selected from a different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parameters are 1900-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th 25% (HL) 45% (S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ents need to know their dates so that they can support their arguments with good, accurate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storiography needs to be used with discretion – a little goes a long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storiography is not a substitute for the candidate’s own knowledge” (P. 11 of Subject 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2 is a global twentieth century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ourage students to think outside of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irst World War, for instance, took place on many fronts...not just the Wes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ld War Two began in 1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rigins of the Cold War could mention Asia as Question 21 will usually cover the period from 1945 -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 2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total/limte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tarian vs Dictator vs Totalitar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 war vs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year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History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auses practices and effects of w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mocratic States - challenges &amp;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3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gins &amp; development of authoritarian &amp; single party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History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4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tionalist and independence movements in Africa and Asia and post 1945 central and eastern European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pic 5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types and nature of warfare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civil; guerrilla; limited; total (no revolutionar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Origins and causes of war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long and short term; immediate; economic; ideological; political; and religi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Nature of 20</a:t>
            </a:r>
            <a:r>
              <a:rPr b="0" lang="en-GB" sz="2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 Century wars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chnological; home front; resist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ffects and results 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eace settlements; collective security; impact of war on politics, territory and economi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First World W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Second World W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Algerian War (1954 -62); Nigerian civil war (1967 -70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America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Falklands/Malvinas War (1982); Nicaraguan Revolution (1976 -9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Asia and Oceani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Indo-Pakistan wars (1947 -9, 1965, 1971); Chinese civil war (1927 -37, 1946 -9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urope and Middle Eas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Spanish civil war (1936 -39); Iran-Iraq War (1980 -88); Gulf War (1991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Nature and structure of democratic (multiparty) state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constitutions; electoral systems; role of political parties; role of pressur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conomic and social policie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mployment; gender; health; education; social welf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Political, social and economic challenge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political extremism; ethnicity; religion; gender; civil rights; inequitable distribution of weal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terial for Detailed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South Africa 1991 -2000, Nigeria 1961 -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eric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Argentina ( 1983 – 95), Canada 1968 -84, United States 1953 -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a and Ocean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 India 1947 -64, Japan 1945 -52, Australia 1965 -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Europe and Middle Eas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 France 1958 -69, GB and Northern Ireland 1967 -90, Weimar Germany 1919 -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Origins and nature of single party states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ise of; emergence of leaders; totalitarianism (this has move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Establishment of single party states 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methods; ideology; nature and extent of oppos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Domestic policy and impact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structure and organisation of government; political, economic, social and religious policies; education, art, propaganda; status of women, treatment of religious groups and minorities (no foreign polic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6:28:39Z</dcterms:created>
  <dc:creator>smithdm</dc:creator>
  <dc:description/>
  <dc:language>en-US</dc:language>
  <cp:lastModifiedBy>LTCHS</cp:lastModifiedBy>
  <cp:lastPrinted>2009-04-22T19:24:48Z</cp:lastPrinted>
  <dcterms:modified xsi:type="dcterms:W3CDTF">2008-04-17T19:20:58Z</dcterms:modified>
  <cp:revision>35</cp:revision>
  <dc:subject/>
  <dc:title>External Assess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